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11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ct" ContentType="image/x-pict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26972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480816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834660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6972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80816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34660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126972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480816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834660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26972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480816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834660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26972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80816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34660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6972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80816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34660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26972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80816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34660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26972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80816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34660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26972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80816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834660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26972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480816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834660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26972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80816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834660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269720" y="5745960"/>
            <a:ext cx="1046484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697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631920" y="5745960"/>
            <a:ext cx="5106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26972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80816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346600" y="5745960"/>
            <a:ext cx="33696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707272"/>
                </a:solidFill>
                <a:latin typeface="GillSans"/>
              </a:rPr>
              <a:t>Click to edit the title text format</a:t>
            </a: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7a9aa"/>
                </a:solidFill>
                <a:latin typeface="GillSans"/>
              </a:rPr>
              <a:t>Click to edit the outline text format</a:t>
            </a: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  <a:p>
            <a:pPr lvl="1" algn="ctr">
              <a:buClr>
                <a:srgbClr val="a7a9aa"/>
              </a:buClr>
              <a:buFont typeface="Gill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7a9aa"/>
                </a:solidFill>
                <a:latin typeface="GillSans"/>
              </a:rPr>
              <a:t>Second Outline Level</a:t>
            </a: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  <a:p>
            <a:pPr lvl="2" algn="ctr">
              <a:buClr>
                <a:srgbClr val="a7a9aa"/>
              </a:buClr>
              <a:buFont typeface="Gill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7a9aa"/>
                </a:solidFill>
                <a:latin typeface="GillSans"/>
              </a:rPr>
              <a:t>Third Outline Level</a:t>
            </a: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  <a:p>
            <a:pPr lvl="3" algn="ctr">
              <a:buClr>
                <a:srgbClr val="a7a9aa"/>
              </a:buClr>
              <a:buFont typeface="Gill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7a9aa"/>
                </a:solidFill>
                <a:latin typeface="GillSans"/>
              </a:rPr>
              <a:t>Fourth Outline Level</a:t>
            </a: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  <a:p>
            <a:pPr lvl="4" algn="ctr">
              <a:buClr>
                <a:srgbClr val="a7a9aa"/>
              </a:buClr>
              <a:buFont typeface="Gill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7a9aa"/>
                </a:solidFill>
                <a:latin typeface="GillSans"/>
              </a:rPr>
              <a:t>Fifth Outline Level</a:t>
            </a: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  <a:p>
            <a:pPr lvl="5" algn="ctr">
              <a:buClr>
                <a:srgbClr val="000000"/>
              </a:buClr>
              <a:buFont typeface="Gill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7a9aa"/>
                </a:solidFill>
                <a:latin typeface="GillSans"/>
              </a:rPr>
              <a:t>Sixth Outline Level</a:t>
            </a: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  <a:p>
            <a:pPr lvl="6" algn="ctr">
              <a:buClr>
                <a:srgbClr val="000000"/>
              </a:buClr>
              <a:buFont typeface="Gill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7a9aa"/>
                </a:solidFill>
                <a:latin typeface="GillSans"/>
              </a:rPr>
              <a:t>Seventh Outline Level</a:t>
            </a: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" name=""/>
          <p:cNvSpPr/>
          <p:nvPr/>
        </p:nvSpPr>
        <p:spPr>
          <a:xfrm>
            <a:off x="1066680" y="4863960"/>
            <a:ext cx="10820520" cy="0"/>
          </a:xfrm>
          <a:prstGeom prst="line">
            <a:avLst/>
          </a:prstGeom>
          <a:ln w="9360">
            <a:solidFill>
              <a:srgbClr val="a7a9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" name=""/>
          <p:cNvSpPr/>
          <p:nvPr/>
        </p:nvSpPr>
        <p:spPr>
          <a:xfrm>
            <a:off x="11709360" y="343080"/>
            <a:ext cx="0" cy="39348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11976120" y="343080"/>
            <a:ext cx="393840" cy="393480"/>
          </a:xfrm>
          <a:prstGeom prst="rightArrow">
            <a:avLst>
              <a:gd name="adj1" fmla="val 40741"/>
              <a:gd name="adj2" fmla="val 51663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flipH="1">
            <a:off x="10985400" y="343080"/>
            <a:ext cx="393840" cy="393480"/>
          </a:xfrm>
          <a:prstGeom prst="rightArrow">
            <a:avLst>
              <a:gd name="adj1" fmla="val 40741"/>
              <a:gd name="adj2" fmla="val 51663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pic>
        <p:nvPicPr>
          <p:cNvPr id="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85800" y="330120"/>
            <a:ext cx="406440" cy="40644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81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47280" y="1142640"/>
            <a:ext cx="58676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7a9aa"/>
                </a:solidFill>
                <a:latin typeface="GillSans"/>
              </a:rPr>
              <a:t>Click to edit the title text format</a:t>
            </a:r>
            <a:endParaRPr b="0" lang="en-US" sz="48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47280" y="2654280"/>
            <a:ext cx="5867640" cy="572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0000"/>
          </a:bodyPr>
          <a:p>
            <a:pPr marL="618480" indent="-39492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1" marL="963720" indent="-3945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2" marL="1319400" indent="-39492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3" marL="1685160" indent="-39492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4" marL="2030400" indent="-3945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5" marL="2030400" indent="-3945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6" marL="2030400" indent="-3945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81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a7a9aa"/>
                </a:solidFill>
                <a:latin typeface="GillSans"/>
              </a:rPr>
              <a:t>Click to edit the title text format</a:t>
            </a:r>
            <a:endParaRPr b="0" lang="en-US" sz="68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030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 lvl="1" marL="203040" indent="-203040" algn="ctr">
              <a:buClr>
                <a:srgbClr val="000000"/>
              </a:buClr>
              <a:buFont typeface="Gill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 lvl="2" marL="203040" indent="-203040" algn="ctr">
              <a:buClr>
                <a:srgbClr val="000000"/>
              </a:buClr>
              <a:buFont typeface="Gill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 lvl="3" marL="203040" indent="-203040" algn="ctr">
              <a:buClr>
                <a:srgbClr val="000000"/>
              </a:buClr>
              <a:buFont typeface="Gill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 lvl="4" marL="203040" indent="-203040" algn="ctr">
              <a:buClr>
                <a:srgbClr val="000000"/>
              </a:buClr>
              <a:buFont typeface="Gill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 lvl="5" marL="203040" indent="-203040" algn="ctr">
              <a:buClr>
                <a:srgbClr val="000000"/>
              </a:buClr>
              <a:buFont typeface="Gill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 lvl="6" marL="203040" indent="-203040" algn="ctr">
              <a:buClr>
                <a:srgbClr val="000000"/>
              </a:buClr>
              <a:buFont typeface="Gill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11426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7a9aa"/>
                </a:solidFill>
                <a:latin typeface="GillSans"/>
              </a:rPr>
              <a:t>Click to edit the title text format</a:t>
            </a:r>
            <a:endParaRPr b="0" lang="en-US" sz="8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772040" y="2654280"/>
            <a:ext cx="3962520" cy="572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94640" indent="-31608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3" marL="1348200" indent="-31608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48" name=""/>
          <p:cNvSpPr/>
          <p:nvPr/>
        </p:nvSpPr>
        <p:spPr>
          <a:xfrm>
            <a:off x="11709360" y="343080"/>
            <a:ext cx="0" cy="39348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11976120" y="343080"/>
            <a:ext cx="393840" cy="393480"/>
          </a:xfrm>
          <a:prstGeom prst="rightArrow">
            <a:avLst>
              <a:gd name="adj1" fmla="val 40741"/>
              <a:gd name="adj2" fmla="val 51663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50" name="">
            <a:hlinkClick r:id="" action="ppaction://hlinkshowjump?jump=previousslide"/>
          </p:cNvPr>
          <p:cNvSpPr/>
          <p:nvPr/>
        </p:nvSpPr>
        <p:spPr>
          <a:xfrm flipH="1">
            <a:off x="10985400" y="343080"/>
            <a:ext cx="393840" cy="393480"/>
          </a:xfrm>
          <a:prstGeom prst="rightArrow">
            <a:avLst>
              <a:gd name="adj1" fmla="val 40741"/>
              <a:gd name="adj2" fmla="val 51663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pic>
        <p:nvPicPr>
          <p:cNvPr id="45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85800" y="330120"/>
            <a:ext cx="406440" cy="40644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11426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7a9aa"/>
                </a:solidFill>
                <a:latin typeface="GillSans"/>
              </a:rPr>
              <a:t>Click to edit the title text format</a:t>
            </a:r>
            <a:endParaRPr b="0" lang="en-US" sz="8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69720" y="265428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723240" indent="-485640">
              <a:spcBef>
                <a:spcPts val="2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Sans"/>
            </a:endParaRPr>
          </a:p>
          <a:p>
            <a:pPr lvl="1" marL="1090080" indent="-485280">
              <a:spcBef>
                <a:spcPts val="2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Sans"/>
            </a:endParaRPr>
          </a:p>
          <a:p>
            <a:pPr lvl="2" marL="1468080" indent="-485640">
              <a:spcBef>
                <a:spcPts val="2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Sans"/>
            </a:endParaRPr>
          </a:p>
          <a:p>
            <a:pPr lvl="3" marL="1856520" indent="-485640">
              <a:spcBef>
                <a:spcPts val="2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Sans"/>
            </a:endParaRPr>
          </a:p>
          <a:p>
            <a:pPr lvl="4" marL="2223360" indent="-485280">
              <a:spcBef>
                <a:spcPts val="2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Sans"/>
            </a:endParaRPr>
          </a:p>
          <a:p>
            <a:pPr lvl="5" marL="2223360" indent="-485280">
              <a:spcBef>
                <a:spcPts val="2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Sans"/>
            </a:endParaRPr>
          </a:p>
          <a:p>
            <a:pPr lvl="6" marL="2223360" indent="-485280">
              <a:spcBef>
                <a:spcPts val="2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5" name=""/>
          <p:cNvSpPr/>
          <p:nvPr/>
        </p:nvSpPr>
        <p:spPr>
          <a:xfrm>
            <a:off x="11709360" y="343080"/>
            <a:ext cx="0" cy="39348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11976120" y="343080"/>
            <a:ext cx="393840" cy="393480"/>
          </a:xfrm>
          <a:prstGeom prst="rightArrow">
            <a:avLst>
              <a:gd name="adj1" fmla="val 40741"/>
              <a:gd name="adj2" fmla="val 51663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7" name="">
            <a:hlinkClick r:id="" action="ppaction://hlinkshowjump?jump=previousslide"/>
          </p:cNvPr>
          <p:cNvSpPr/>
          <p:nvPr/>
        </p:nvSpPr>
        <p:spPr>
          <a:xfrm flipH="1">
            <a:off x="10985400" y="343080"/>
            <a:ext cx="393840" cy="393480"/>
          </a:xfrm>
          <a:prstGeom prst="rightArrow">
            <a:avLst>
              <a:gd name="adj1" fmla="val 40741"/>
              <a:gd name="adj2" fmla="val 51663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pic>
        <p:nvPicPr>
          <p:cNvPr id="4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85800" y="330120"/>
            <a:ext cx="406440" cy="40644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680" y="1123920"/>
            <a:ext cx="12966840" cy="749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709360" y="343080"/>
            <a:ext cx="0" cy="39348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11976120" y="343080"/>
            <a:ext cx="393840" cy="393480"/>
          </a:xfrm>
          <a:prstGeom prst="rightArrow">
            <a:avLst>
              <a:gd name="adj1" fmla="val 40741"/>
              <a:gd name="adj2" fmla="val 51663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 flipH="1">
            <a:off x="10985400" y="343080"/>
            <a:ext cx="393840" cy="393480"/>
          </a:xfrm>
          <a:prstGeom prst="rightArrow">
            <a:avLst>
              <a:gd name="adj1" fmla="val 40741"/>
              <a:gd name="adj2" fmla="val 51663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pic>
        <p:nvPicPr>
          <p:cNvPr id="8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85800" y="330120"/>
            <a:ext cx="406440" cy="40644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706320" indent="-474480">
              <a:spcBef>
                <a:spcPts val="5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Sans"/>
            </a:endParaRPr>
          </a:p>
          <a:p>
            <a:pPr lvl="1" marL="1064520" indent="-474120">
              <a:spcBef>
                <a:spcPts val="5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Sans"/>
            </a:endParaRPr>
          </a:p>
          <a:p>
            <a:pPr lvl="2" marL="1433520" indent="-474480">
              <a:spcBef>
                <a:spcPts val="5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Sans"/>
            </a:endParaRPr>
          </a:p>
          <a:p>
            <a:pPr lvl="3" marL="1812960" indent="-474480">
              <a:spcBef>
                <a:spcPts val="5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Sans"/>
            </a:endParaRPr>
          </a:p>
          <a:p>
            <a:pPr lvl="4" marL="2171160" indent="-474120">
              <a:spcBef>
                <a:spcPts val="5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Sans"/>
            </a:endParaRPr>
          </a:p>
          <a:p>
            <a:pPr lvl="5" marL="2171160" indent="-474120">
              <a:spcBef>
                <a:spcPts val="5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Sans"/>
            </a:endParaRPr>
          </a:p>
          <a:p>
            <a:pPr lvl="6" marL="2171160" indent="-474120">
              <a:spcBef>
                <a:spcPts val="5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7" name=""/>
          <p:cNvSpPr/>
          <p:nvPr/>
        </p:nvSpPr>
        <p:spPr>
          <a:xfrm>
            <a:off x="11709360" y="343080"/>
            <a:ext cx="0" cy="39348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11976120" y="343080"/>
            <a:ext cx="393840" cy="393480"/>
          </a:xfrm>
          <a:prstGeom prst="rightArrow">
            <a:avLst>
              <a:gd name="adj1" fmla="val 40741"/>
              <a:gd name="adj2" fmla="val 51663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 flipH="1">
            <a:off x="10985400" y="343080"/>
            <a:ext cx="393840" cy="393480"/>
          </a:xfrm>
          <a:prstGeom prst="rightArrow">
            <a:avLst>
              <a:gd name="adj1" fmla="val 40741"/>
              <a:gd name="adj2" fmla="val 51663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pic>
        <p:nvPicPr>
          <p:cNvPr id="13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85800" y="330120"/>
            <a:ext cx="406440" cy="40644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18181"/>
                </a:solidFill>
                <a:latin typeface="GillSans"/>
              </a:rPr>
              <a:t>Click to edit the title text format</a:t>
            </a:r>
            <a:endParaRPr b="0" lang="en-US" sz="8000" spc="-1" strike="noStrike">
              <a:solidFill>
                <a:srgbClr val="818181"/>
              </a:solidFill>
              <a:latin typeface="GillSans"/>
            </a:endParaRPr>
          </a:p>
        </p:txBody>
      </p:sp>
      <p:sp>
        <p:nvSpPr>
          <p:cNvPr id="168" name=""/>
          <p:cNvSpPr/>
          <p:nvPr/>
        </p:nvSpPr>
        <p:spPr>
          <a:xfrm>
            <a:off x="11709360" y="343080"/>
            <a:ext cx="0" cy="39348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11976120" y="343080"/>
            <a:ext cx="393840" cy="393480"/>
          </a:xfrm>
          <a:prstGeom prst="rightArrow">
            <a:avLst>
              <a:gd name="adj1" fmla="val 40741"/>
              <a:gd name="adj2" fmla="val 51663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 flipH="1">
            <a:off x="10985400" y="343080"/>
            <a:ext cx="393840" cy="393480"/>
          </a:xfrm>
          <a:prstGeom prst="rightArrow">
            <a:avLst>
              <a:gd name="adj1" fmla="val 40741"/>
              <a:gd name="adj2" fmla="val 51663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pic>
        <p:nvPicPr>
          <p:cNvPr id="17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85800" y="330120"/>
            <a:ext cx="406440" cy="40644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81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695916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18181"/>
                </a:solidFill>
                <a:latin typeface="GillSans"/>
              </a:rPr>
              <a:t>Click to edit the title text format</a:t>
            </a:r>
            <a:endParaRPr b="0" lang="en-US" sz="8000" spc="-1" strike="noStrike">
              <a:solidFill>
                <a:srgbClr val="818181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11426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7a9aa"/>
                </a:solidFill>
                <a:latin typeface="GillSans"/>
              </a:rPr>
              <a:t>Click to edit the title text format</a:t>
            </a:r>
            <a:endParaRPr b="0" lang="en-US" sz="8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46" name=""/>
          <p:cNvSpPr/>
          <p:nvPr/>
        </p:nvSpPr>
        <p:spPr>
          <a:xfrm>
            <a:off x="11709360" y="343080"/>
            <a:ext cx="0" cy="39348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11976120" y="343080"/>
            <a:ext cx="393840" cy="393480"/>
          </a:xfrm>
          <a:prstGeom prst="rightArrow">
            <a:avLst>
              <a:gd name="adj1" fmla="val 40741"/>
              <a:gd name="adj2" fmla="val 51663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48" name="">
            <a:hlinkClick r:id="" action="ppaction://hlinkshowjump?jump=previousslide"/>
          </p:cNvPr>
          <p:cNvSpPr/>
          <p:nvPr/>
        </p:nvSpPr>
        <p:spPr>
          <a:xfrm flipH="1">
            <a:off x="10985400" y="343080"/>
            <a:ext cx="393840" cy="393480"/>
          </a:xfrm>
          <a:prstGeom prst="rightArrow">
            <a:avLst>
              <a:gd name="adj1" fmla="val 40741"/>
              <a:gd name="adj2" fmla="val 51663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pic>
        <p:nvPicPr>
          <p:cNvPr id="24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85800" y="330120"/>
            <a:ext cx="406440" cy="40644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11426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7a9aa"/>
                </a:solidFill>
                <a:latin typeface="GillSans"/>
              </a:rPr>
              <a:t>Click to edit the title text format</a:t>
            </a:r>
            <a:endParaRPr b="0" lang="en-US" sz="8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270080" y="2654280"/>
            <a:ext cx="5045040" cy="572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549000" indent="-35064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1" marL="855360" indent="-35028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2" marL="1171080" indent="-35064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3" marL="1495440" indent="-35064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4" marL="1802160" indent="-35028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5" marL="1802160" indent="-35028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6" marL="1802160" indent="-35028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88" name=""/>
          <p:cNvSpPr/>
          <p:nvPr/>
        </p:nvSpPr>
        <p:spPr>
          <a:xfrm>
            <a:off x="11709360" y="343080"/>
            <a:ext cx="0" cy="39348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11976120" y="343080"/>
            <a:ext cx="393840" cy="393480"/>
          </a:xfrm>
          <a:prstGeom prst="rightArrow">
            <a:avLst>
              <a:gd name="adj1" fmla="val 40741"/>
              <a:gd name="adj2" fmla="val 51663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90" name="">
            <a:hlinkClick r:id="" action="ppaction://hlinkshowjump?jump=previousslide"/>
          </p:cNvPr>
          <p:cNvSpPr/>
          <p:nvPr/>
        </p:nvSpPr>
        <p:spPr>
          <a:xfrm flipH="1">
            <a:off x="10985400" y="343080"/>
            <a:ext cx="393840" cy="393480"/>
          </a:xfrm>
          <a:prstGeom prst="rightArrow">
            <a:avLst>
              <a:gd name="adj1" fmla="val 40741"/>
              <a:gd name="adj2" fmla="val 51663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pic>
        <p:nvPicPr>
          <p:cNvPr id="29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85800" y="330120"/>
            <a:ext cx="406440" cy="40644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11426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7a9aa"/>
                </a:solidFill>
                <a:latin typeface="GillSans"/>
              </a:rPr>
              <a:t>Click to edit the title text format</a:t>
            </a:r>
            <a:endParaRPr b="0" lang="en-US" sz="8000" spc="-1" strike="noStrike">
              <a:solidFill>
                <a:srgbClr val="a7a9aa"/>
              </a:solidFill>
              <a:latin typeface="Gill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69720" y="265428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711360" indent="-45432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1" marL="1108440" indent="-4539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2" marL="1517400" indent="-45432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3" marL="1937880" indent="-45432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4" marL="2334960" indent="-4539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5" marL="2334960" indent="-4539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  <a:p>
            <a:pPr lvl="6" marL="2334960" indent="-4539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30" name=""/>
          <p:cNvSpPr/>
          <p:nvPr/>
        </p:nvSpPr>
        <p:spPr>
          <a:xfrm>
            <a:off x="11709360" y="343080"/>
            <a:ext cx="0" cy="39348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11976120" y="343080"/>
            <a:ext cx="393840" cy="393480"/>
          </a:xfrm>
          <a:prstGeom prst="rightArrow">
            <a:avLst>
              <a:gd name="adj1" fmla="val 40741"/>
              <a:gd name="adj2" fmla="val 51663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 flipH="1">
            <a:off x="10985400" y="343080"/>
            <a:ext cx="393840" cy="393480"/>
          </a:xfrm>
          <a:prstGeom prst="rightArrow">
            <a:avLst>
              <a:gd name="adj1" fmla="val 40741"/>
              <a:gd name="adj2" fmla="val 51663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pic>
        <p:nvPicPr>
          <p:cNvPr id="333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85800" y="330120"/>
            <a:ext cx="406440" cy="40644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arts_multimedia.ppt_media/bandeson_multi3-1.mov" descr=""/>
          <p:cNvPicPr/>
          <p:nvPr/>
        </p:nvPicPr>
        <p:blipFill>
          <a:blip r:embed="rId2"/>
          <a:stretch/>
        </p:blipFill>
        <p:spPr>
          <a:xfrm>
            <a:off x="0" y="0"/>
            <a:ext cx="15840" cy="158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4680" y="1123920"/>
            <a:ext cx="12966840" cy="749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0" y="1098720"/>
            <a:ext cx="13004640" cy="7554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0" y="1081080"/>
            <a:ext cx="13004640" cy="7589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1104840"/>
            <a:ext cx="13004640" cy="7542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0" y="1098720"/>
            <a:ext cx="13004640" cy="7554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0" y="1098720"/>
            <a:ext cx="13004640" cy="7554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270080" y="2654280"/>
            <a:ext cx="1046484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20000"/>
              </a:lnSpc>
              <a:buClr>
                <a:srgbClr val="b1b243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0" y="1098720"/>
            <a:ext cx="13004640" cy="7554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0" y="1082520"/>
            <a:ext cx="13004640" cy="7588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0" y="1085760"/>
            <a:ext cx="13004640" cy="75805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-609480" y="41148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5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0" y="1095480"/>
            <a:ext cx="13004640" cy="7561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0" y="1087560"/>
            <a:ext cx="13004640" cy="7576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0" y="1085760"/>
            <a:ext cx="13004640" cy="7580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1608480"/>
            <a:ext cx="10464840" cy="333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707272"/>
              </a:solidFill>
              <a:latin typeface="Gill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9aa"/>
              </a:solidFill>
              <a:latin typeface="GillSans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4680" y="1123920"/>
            <a:ext cx="12966840" cy="7493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65376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8000" spc="-1" strike="noStrike">
              <a:solidFill>
                <a:srgbClr val="a7a9aa"/>
              </a:solidFill>
              <a:latin typeface="GillSans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13004640" cy="7570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0" y="1098720"/>
            <a:ext cx="13004640" cy="7553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0" y="1090440"/>
            <a:ext cx="13004640" cy="7570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0" y="1085760"/>
            <a:ext cx="13004640" cy="7580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0" y="1090440"/>
            <a:ext cx="13004640" cy="7570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0" y="1093680"/>
            <a:ext cx="13004640" cy="7562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1090440"/>
            <a:ext cx="13004640" cy="7570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ée-Caroline Boucher</cp:lastModifiedBy>
  <dcterms:modified xsi:type="dcterms:W3CDTF">2008-05-05T14:00:07Z</dcterms:modified>
  <cp:revision>38</cp:revision>
  <dc:subject/>
  <dc:title>Présentation PowerPoint</dc:title>
</cp:coreProperties>
</file>